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6.png" ContentType="image/png"/>
  <Override PartName="/ppt/media/image8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02444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480600" y="1279440"/>
            <a:ext cx="6140520" cy="345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709200" y="4925880"/>
            <a:ext cx="568332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3"/>
          </p:nvPr>
        </p:nvSpPr>
        <p:spPr>
          <a:xfrm>
            <a:off x="0" y="9720360"/>
            <a:ext cx="30780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4"/>
          </p:nvPr>
        </p:nvSpPr>
        <p:spPr>
          <a:xfrm>
            <a:off x="4024440" y="9720360"/>
            <a:ext cx="30780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298E-57E4-430D-991C-371FC9150C7A}" type="slidenum">
              <a:rPr b="0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480960" y="1279440"/>
            <a:ext cx="6140520" cy="34545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200" y="4925880"/>
            <a:ext cx="56833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灯片编号占位符 3"/>
          <p:cNvSpPr/>
          <p:nvPr/>
        </p:nvSpPr>
        <p:spPr>
          <a:xfrm>
            <a:off x="4024440" y="9720360"/>
            <a:ext cx="3078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FBDE-2FA4-4BF7-8EE4-228311EA054C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480960" y="1279440"/>
            <a:ext cx="6140520" cy="34545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200" y="4925880"/>
            <a:ext cx="56833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4024440" y="9720360"/>
            <a:ext cx="3078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EE6F-A9B0-4663-B481-9033A85EAA9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480960" y="1279440"/>
            <a:ext cx="6140520" cy="3454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200" y="4925880"/>
            <a:ext cx="56833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灯片编号占位符 3"/>
          <p:cNvSpPr/>
          <p:nvPr/>
        </p:nvSpPr>
        <p:spPr>
          <a:xfrm>
            <a:off x="4024440" y="9720360"/>
            <a:ext cx="3078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D7D3-DC05-4B22-9AA9-5E018E9D878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480960" y="1279440"/>
            <a:ext cx="6140520" cy="3454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200" y="4925880"/>
            <a:ext cx="56833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灯片编号占位符 3"/>
          <p:cNvSpPr/>
          <p:nvPr/>
        </p:nvSpPr>
        <p:spPr>
          <a:xfrm>
            <a:off x="4024440" y="9720360"/>
            <a:ext cx="3078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C7F8-9C9A-4349-8474-AA6CFA2FFBF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480960" y="1279440"/>
            <a:ext cx="6140520" cy="3454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200" y="4925880"/>
            <a:ext cx="56833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灯片编号占位符 3"/>
          <p:cNvSpPr/>
          <p:nvPr/>
        </p:nvSpPr>
        <p:spPr>
          <a:xfrm>
            <a:off x="4024440" y="9720360"/>
            <a:ext cx="3078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AE1A-5C42-4360-B501-34E870AA094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480960" y="1279440"/>
            <a:ext cx="6140520" cy="3454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200" y="4925880"/>
            <a:ext cx="56833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3"/>
          <p:cNvSpPr/>
          <p:nvPr/>
        </p:nvSpPr>
        <p:spPr>
          <a:xfrm>
            <a:off x="4024440" y="9720360"/>
            <a:ext cx="3078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FDCE-E831-453E-AE32-5066446548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480960" y="1279440"/>
            <a:ext cx="6140520" cy="3454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200" y="4925880"/>
            <a:ext cx="56833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灯片编号占位符 3"/>
          <p:cNvSpPr/>
          <p:nvPr/>
        </p:nvSpPr>
        <p:spPr>
          <a:xfrm>
            <a:off x="4024440" y="9720360"/>
            <a:ext cx="30780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AA52-61CF-4890-8C0E-556569ABD94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7C578-6C3B-42EF-99C5-6D6692B7D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2600" y="1484280"/>
            <a:ext cx="106678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912600" y="3912480"/>
            <a:ext cx="106678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9434-F027-4956-AE8C-6B0599EEE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2600" y="14842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378840" y="14842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912600" y="39124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378840" y="39124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01CB-3732-4782-8DAA-D25B10F9B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1484280"/>
            <a:ext cx="3434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19440" y="1484280"/>
            <a:ext cx="3434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126280" y="1484280"/>
            <a:ext cx="3434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12600" y="3912480"/>
            <a:ext cx="3434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519440" y="3912480"/>
            <a:ext cx="3434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126280" y="3912480"/>
            <a:ext cx="3434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2B40-3DD6-4ED4-A598-B20690F0BE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912600" y="1484280"/>
            <a:ext cx="10667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8CCC-2B7D-491E-B5D9-EA13B5FBD5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2600" y="1484280"/>
            <a:ext cx="10667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AC4E-663D-490F-BD1D-4A7360DEF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484280"/>
            <a:ext cx="5205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8840" y="1484280"/>
            <a:ext cx="5205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7CFA4-FFE7-453C-99B9-1CF92D5E0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792E-6AA1-4151-9B62-1957DC2AE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23520" y="476280"/>
            <a:ext cx="106678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D338-CECF-47C7-9233-94CB521DF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2600" y="14842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78840" y="1484280"/>
            <a:ext cx="5205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2600" y="39124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4413-ECF4-4AC4-ADE6-47A800A7F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2600" y="1484280"/>
            <a:ext cx="5205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78840" y="14842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78840" y="39124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CAAE-0686-4905-9477-874CD9897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2600" y="14842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378840" y="1484280"/>
            <a:ext cx="5205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2600" y="3912480"/>
            <a:ext cx="106678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E65C-B953-44F7-A4B1-6D5DFC47D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 rot="19734000">
            <a:off x="10891800" y="6156000"/>
            <a:ext cx="965160" cy="633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2600" y="1484280"/>
            <a:ext cx="10667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0" y="1295280"/>
            <a:ext cx="11423520" cy="748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0"/>
            <a:ext cx="3600360" cy="368280"/>
          </a:xfrm>
          <a:prstGeom prst="rect">
            <a:avLst/>
          </a:prstGeom>
          <a:solidFill>
            <a:srgbClr val="993300">
              <a:alpha val="84000"/>
            </a:srgbClr>
          </a:solidFill>
          <a:ln w="0">
            <a:noFill/>
          </a:ln>
          <a:effectLst>
            <a:outerShdw dist="17819" dir="2700000" blurRad="0" rotWithShape="0">
              <a:srgbClr val="5c1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海南政法职业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>
            <a:off x="10896480" y="260280"/>
            <a:ext cx="768600" cy="57168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 flipH="1" rot="16200000">
            <a:off x="-3072600" y="3303720"/>
            <a:ext cx="7489800" cy="73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72" y="0"/>
                </a:lnTo>
                <a:lnTo>
                  <a:pt x="572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9360000" y="871560"/>
            <a:ext cx="2836800" cy="337320"/>
          </a:xfrm>
          <a:prstGeom prst="rect">
            <a:avLst/>
          </a:prstGeom>
          <a:solidFill>
            <a:srgbClr val="993300">
              <a:alpha val="84000"/>
            </a:srgbClr>
          </a:solidFill>
          <a:ln w="0">
            <a:noFill/>
          </a:ln>
          <a:effectLst>
            <a:outerShdw dist="17819" dir="2700000" blurRad="0" rotWithShape="0">
              <a:srgbClr val="5c1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新魏"/>
              </a:rPr>
              <a:t>大学计算机应用基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23880" y="6165720"/>
            <a:ext cx="107535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>
            <a:hlinkClick r:id="" action="ppaction://hlinkshowjump?jump=previousslide"/>
          </p:cNvPr>
          <p:cNvSpPr/>
          <p:nvPr/>
        </p:nvSpPr>
        <p:spPr>
          <a:xfrm>
            <a:off x="7728120" y="6362640"/>
            <a:ext cx="407880" cy="306360"/>
          </a:xfrm>
          <a:custGeom>
            <a:avLst/>
            <a:gdLst>
              <a:gd name="textAreaLeft" fmla="*/ 19800 w 407880"/>
              <a:gd name="textAreaRight" fmla="*/ 388080 w 40788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28749" h="21600">
                <a:moveTo>
                  <a:pt x="0" y="0"/>
                </a:moveTo>
                <a:lnTo>
                  <a:pt x="28749" y="0"/>
                </a:lnTo>
                <a:lnTo>
                  <a:pt x="28749" y="21600"/>
                </a:lnTo>
                <a:lnTo>
                  <a:pt x="0" y="21600"/>
                </a:lnTo>
                <a:close/>
              </a:path>
              <a:path fill="lightenLess" w="28749" h="21600">
                <a:moveTo>
                  <a:pt x="0" y="0"/>
                </a:moveTo>
                <a:lnTo>
                  <a:pt x="28749" y="0"/>
                </a:lnTo>
                <a:lnTo>
                  <a:pt x="27349" y="1400"/>
                </a:lnTo>
                <a:lnTo>
                  <a:pt x="1400" y="1400"/>
                </a:lnTo>
                <a:close/>
              </a:path>
              <a:path fill="darken" w="28749" h="21600">
                <a:moveTo>
                  <a:pt x="28749" y="0"/>
                </a:moveTo>
                <a:lnTo>
                  <a:pt x="28749" y="21600"/>
                </a:lnTo>
                <a:lnTo>
                  <a:pt x="27349" y="20200"/>
                </a:lnTo>
                <a:lnTo>
                  <a:pt x="27349" y="1400"/>
                </a:lnTo>
                <a:close/>
              </a:path>
              <a:path fill="darkenLess" w="28749" h="21600">
                <a:moveTo>
                  <a:pt x="28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9" y="20200"/>
                </a:lnTo>
                <a:close/>
              </a:path>
              <a:path fill="lighten" w="28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9" h="21600">
                <a:moveTo>
                  <a:pt x="7368" y="10800"/>
                </a:moveTo>
                <a:lnTo>
                  <a:pt x="21381" y="3794"/>
                </a:lnTo>
                <a:lnTo>
                  <a:pt x="213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>
            <a:hlinkClick r:id="" action="ppaction://hlinkshowjump?jump=firstslide"/>
          </p:cNvPr>
          <p:cNvSpPr/>
          <p:nvPr/>
        </p:nvSpPr>
        <p:spPr>
          <a:xfrm>
            <a:off x="9072720" y="6362640"/>
            <a:ext cx="407880" cy="306360"/>
          </a:xfrm>
          <a:custGeom>
            <a:avLst/>
            <a:gdLst>
              <a:gd name="textAreaLeft" fmla="*/ 19800 w 407880"/>
              <a:gd name="textAreaRight" fmla="*/ 388080 w 40788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28749" h="21600">
                <a:moveTo>
                  <a:pt x="0" y="0"/>
                </a:moveTo>
                <a:lnTo>
                  <a:pt x="28749" y="0"/>
                </a:lnTo>
                <a:lnTo>
                  <a:pt x="28749" y="21600"/>
                </a:lnTo>
                <a:lnTo>
                  <a:pt x="0" y="21600"/>
                </a:lnTo>
                <a:close/>
              </a:path>
              <a:path fill="lightenLess" w="28749" h="21600">
                <a:moveTo>
                  <a:pt x="0" y="0"/>
                </a:moveTo>
                <a:lnTo>
                  <a:pt x="28749" y="0"/>
                </a:lnTo>
                <a:lnTo>
                  <a:pt x="27349" y="1400"/>
                </a:lnTo>
                <a:lnTo>
                  <a:pt x="1400" y="1400"/>
                </a:lnTo>
                <a:close/>
              </a:path>
              <a:path fill="darken" w="28749" h="21600">
                <a:moveTo>
                  <a:pt x="28749" y="0"/>
                </a:moveTo>
                <a:lnTo>
                  <a:pt x="28749" y="21600"/>
                </a:lnTo>
                <a:lnTo>
                  <a:pt x="27349" y="20200"/>
                </a:lnTo>
                <a:lnTo>
                  <a:pt x="27349" y="1400"/>
                </a:lnTo>
                <a:close/>
              </a:path>
              <a:path fill="darkenLess" w="28749" h="21600">
                <a:moveTo>
                  <a:pt x="28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49" y="20200"/>
                </a:lnTo>
                <a:close/>
              </a:path>
              <a:path fill="lighten" w="28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49" h="21600">
                <a:moveTo>
                  <a:pt x="10876" y="10800"/>
                </a:moveTo>
                <a:lnTo>
                  <a:pt x="21381" y="3794"/>
                </a:lnTo>
                <a:lnTo>
                  <a:pt x="21381" y="17806"/>
                </a:lnTo>
                <a:close/>
              </a:path>
              <a:path fill="darken" w="28749" h="21600">
                <a:moveTo>
                  <a:pt x="7368" y="3794"/>
                </a:moveTo>
                <a:lnTo>
                  <a:pt x="9031" y="3794"/>
                </a:lnTo>
                <a:lnTo>
                  <a:pt x="9031" y="17806"/>
                </a:lnTo>
                <a:lnTo>
                  <a:pt x="7368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>
            <a:hlinkClick r:id="" action="ppaction://hlinkshowjump?jump=lastslide"/>
          </p:cNvPr>
          <p:cNvSpPr/>
          <p:nvPr/>
        </p:nvSpPr>
        <p:spPr>
          <a:xfrm>
            <a:off x="9745560" y="6362640"/>
            <a:ext cx="408240" cy="306360"/>
          </a:xfrm>
          <a:custGeom>
            <a:avLst/>
            <a:gdLst>
              <a:gd name="textAreaLeft" fmla="*/ 19800 w 408240"/>
              <a:gd name="textAreaRight" fmla="*/ 388440 w 408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7886" y="10800"/>
                </a:moveTo>
                <a:lnTo>
                  <a:pt x="7381" y="17806"/>
                </a:lnTo>
                <a:lnTo>
                  <a:pt x="7381" y="3794"/>
                </a:lnTo>
                <a:close/>
              </a:path>
              <a:path fill="darken" w="28775" h="21600">
                <a:moveTo>
                  <a:pt x="19731" y="3794"/>
                </a:moveTo>
                <a:lnTo>
                  <a:pt x="19731" y="17806"/>
                </a:lnTo>
                <a:lnTo>
                  <a:pt x="21394" y="17806"/>
                </a:lnTo>
                <a:lnTo>
                  <a:pt x="21394" y="3794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4">
            <a:hlinkClick r:id="" action="ppaction://hlinkshowjump?jump=nextslide"/>
          </p:cNvPr>
          <p:cNvSpPr/>
          <p:nvPr/>
        </p:nvSpPr>
        <p:spPr>
          <a:xfrm>
            <a:off x="8400960" y="6362640"/>
            <a:ext cx="408240" cy="306360"/>
          </a:xfrm>
          <a:custGeom>
            <a:avLst/>
            <a:gdLst>
              <a:gd name="textAreaLeft" fmla="*/ 19800 w 408240"/>
              <a:gd name="textAreaRight" fmla="*/ 388440 w 408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7381" y="3794"/>
                </a:moveTo>
                <a:lnTo>
                  <a:pt x="21394" y="10800"/>
                </a:lnTo>
                <a:lnTo>
                  <a:pt x="7381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5">
            <a:hlinkClick r:id="" action="ppaction://hlinkshowjump?jump=endshow"/>
          </p:cNvPr>
          <p:cNvSpPr/>
          <p:nvPr/>
        </p:nvSpPr>
        <p:spPr>
          <a:xfrm>
            <a:off x="7056360" y="6362640"/>
            <a:ext cx="409680" cy="306360"/>
          </a:xfrm>
          <a:custGeom>
            <a:avLst/>
            <a:gdLst>
              <a:gd name="textAreaLeft" fmla="*/ 19800 w 409680"/>
              <a:gd name="textAreaRight" fmla="*/ 389880 w 40968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28876" h="21600">
                <a:moveTo>
                  <a:pt x="0" y="0"/>
                </a:moveTo>
                <a:lnTo>
                  <a:pt x="28876" y="0"/>
                </a:lnTo>
                <a:lnTo>
                  <a:pt x="28876" y="21600"/>
                </a:lnTo>
                <a:lnTo>
                  <a:pt x="0" y="21600"/>
                </a:lnTo>
                <a:close/>
              </a:path>
              <a:path fill="lightenLess" w="28876" h="21600">
                <a:moveTo>
                  <a:pt x="0" y="0"/>
                </a:moveTo>
                <a:lnTo>
                  <a:pt x="28876" y="0"/>
                </a:lnTo>
                <a:lnTo>
                  <a:pt x="27476" y="1400"/>
                </a:lnTo>
                <a:lnTo>
                  <a:pt x="1400" y="1400"/>
                </a:lnTo>
                <a:close/>
              </a:path>
              <a:path fill="darken" w="28876" h="21600">
                <a:moveTo>
                  <a:pt x="28876" y="0"/>
                </a:moveTo>
                <a:lnTo>
                  <a:pt x="28876" y="21600"/>
                </a:lnTo>
                <a:lnTo>
                  <a:pt x="27476" y="20200"/>
                </a:lnTo>
                <a:lnTo>
                  <a:pt x="27476" y="1400"/>
                </a:lnTo>
                <a:close/>
              </a:path>
              <a:path fill="darkenLess" w="28876" h="21600">
                <a:moveTo>
                  <a:pt x="2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76" y="20200"/>
                </a:lnTo>
                <a:close/>
              </a:path>
              <a:path fill="lighten" w="2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6">
            <a:hlinkClick r:id="" action="ppaction://hlinkshowjump?jump=previousslide"/>
          </p:cNvPr>
          <p:cNvSpPr/>
          <p:nvPr/>
        </p:nvSpPr>
        <p:spPr>
          <a:xfrm>
            <a:off x="10418760" y="6362640"/>
            <a:ext cx="406440" cy="304920"/>
          </a:xfrm>
          <a:custGeom>
            <a:avLst/>
            <a:gdLst>
              <a:gd name="textAreaLeft" fmla="*/ 19440 w 406440"/>
              <a:gd name="textAreaRight" fmla="*/ 387000 w 406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8783" h="21600">
                <a:moveTo>
                  <a:pt x="0" y="0"/>
                </a:moveTo>
                <a:lnTo>
                  <a:pt x="28783" y="0"/>
                </a:lnTo>
                <a:lnTo>
                  <a:pt x="28783" y="21600"/>
                </a:lnTo>
                <a:lnTo>
                  <a:pt x="0" y="21600"/>
                </a:lnTo>
                <a:close/>
              </a:path>
              <a:path fill="lightenLess" w="28783" h="21600">
                <a:moveTo>
                  <a:pt x="0" y="0"/>
                </a:moveTo>
                <a:lnTo>
                  <a:pt x="28783" y="0"/>
                </a:lnTo>
                <a:lnTo>
                  <a:pt x="27383" y="1400"/>
                </a:lnTo>
                <a:lnTo>
                  <a:pt x="1400" y="1400"/>
                </a:lnTo>
                <a:close/>
              </a:path>
              <a:path fill="darken" w="28783" h="21600">
                <a:moveTo>
                  <a:pt x="28783" y="0"/>
                </a:moveTo>
                <a:lnTo>
                  <a:pt x="28783" y="21600"/>
                </a:lnTo>
                <a:lnTo>
                  <a:pt x="27383" y="20200"/>
                </a:lnTo>
                <a:lnTo>
                  <a:pt x="27383" y="1400"/>
                </a:lnTo>
                <a:close/>
              </a:path>
              <a:path fill="darkenLess" w="28783" h="21600">
                <a:moveTo>
                  <a:pt x="28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3" y="20200"/>
                </a:lnTo>
                <a:close/>
              </a:path>
              <a:path fill="lighten" w="28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3" h="21600">
                <a:moveTo>
                  <a:pt x="7385" y="7493"/>
                </a:moveTo>
                <a:lnTo>
                  <a:pt x="10893" y="7493"/>
                </a:lnTo>
                <a:lnTo>
                  <a:pt x="10893" y="12828"/>
                </a:lnTo>
                <a:cubicBezTo>
                  <a:pt x="10893" y="13751"/>
                  <a:pt x="11693" y="14482"/>
                  <a:pt x="12729" y="14482"/>
                </a:cubicBezTo>
                <a:lnTo>
                  <a:pt x="14392" y="14482"/>
                </a:lnTo>
                <a:cubicBezTo>
                  <a:pt x="15427" y="14482"/>
                  <a:pt x="16228" y="13751"/>
                  <a:pt x="16228" y="12828"/>
                </a:cubicBezTo>
                <a:lnTo>
                  <a:pt x="16228" y="7493"/>
                </a:lnTo>
                <a:lnTo>
                  <a:pt x="14392" y="7493"/>
                </a:lnTo>
                <a:lnTo>
                  <a:pt x="17899" y="3985"/>
                </a:lnTo>
                <a:lnTo>
                  <a:pt x="21572" y="7493"/>
                </a:lnTo>
                <a:lnTo>
                  <a:pt x="19736" y="7493"/>
                </a:lnTo>
                <a:lnTo>
                  <a:pt x="19736" y="12828"/>
                </a:lnTo>
                <a:cubicBezTo>
                  <a:pt x="19736" y="15596"/>
                  <a:pt x="17159" y="18155"/>
                  <a:pt x="14392" y="18155"/>
                </a:cubicBezTo>
                <a:lnTo>
                  <a:pt x="12729" y="18155"/>
                </a:lnTo>
                <a:cubicBezTo>
                  <a:pt x="9961" y="18155"/>
                  <a:pt x="7385" y="15596"/>
                  <a:pt x="7385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" descr=""/>
          <p:cNvPicPr/>
          <p:nvPr/>
        </p:nvPicPr>
        <p:blipFill>
          <a:blip r:embed="rId5"/>
          <a:stretch/>
        </p:blipFill>
        <p:spPr>
          <a:xfrm>
            <a:off x="203040" y="5867280"/>
            <a:ext cx="870120" cy="66528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3"/>
          <p:cNvSpPr>
            <a:spLocks noGrp="1"/>
          </p:cNvSpPr>
          <p:nvPr>
            <p:ph type="sldNum" idx="1"/>
          </p:nvPr>
        </p:nvSpPr>
        <p:spPr>
          <a:xfrm>
            <a:off x="10932840" y="6251040"/>
            <a:ext cx="826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800" spc="-1" strike="noStrike">
                <a:solidFill>
                  <a:srgbClr val="000000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18D-1214-4FFC-A4D6-EBC8ABE47D97}" type="slidenum">
              <a:rPr b="0" sz="1800" spc="-1" strike="noStrike">
                <a:solidFill>
                  <a:srgbClr val="000000"/>
                </a:solidFill>
                <a:latin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图片 2" descr="图片包含 图示&#10;&#10;描述已自动生成"/>
          <p:cNvPicPr/>
          <p:nvPr/>
        </p:nvPicPr>
        <p:blipFill>
          <a:blip r:embed="rId6"/>
          <a:stretch/>
        </p:blipFill>
        <p:spPr>
          <a:xfrm>
            <a:off x="203040" y="7920"/>
            <a:ext cx="493920" cy="3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占位符 1"/>
          <p:cNvSpPr/>
          <p:nvPr/>
        </p:nvSpPr>
        <p:spPr>
          <a:xfrm>
            <a:off x="8380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C884-0768-438D-92E3-91556236DDE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灯片编号占位符 2"/>
          <p:cNvSpPr/>
          <p:nvPr/>
        </p:nvSpPr>
        <p:spPr>
          <a:xfrm>
            <a:off x="86104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B6E5-AA58-44F0-9EFF-4EB4AF4BBEF9}" type="slidenum">
              <a:rPr b="0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03160" y="1401840"/>
            <a:ext cx="8785080" cy="238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a3b2c1"/>
                </a:solidFill>
                <a:latin typeface="Verdana"/>
              </a:rPr>
              <a:t>第</a:t>
            </a:r>
            <a:r>
              <a:rPr b="1" lang="en-US" sz="7200" spc="-1" strike="noStrike">
                <a:solidFill>
                  <a:srgbClr val="a3b2c1"/>
                </a:solidFill>
                <a:latin typeface="Verdana"/>
              </a:rPr>
              <a:t>3</a:t>
            </a:r>
            <a:r>
              <a:rPr b="1" lang="zh-CN" sz="7200" spc="-1" strike="noStrike">
                <a:solidFill>
                  <a:srgbClr val="a3b2c1"/>
                </a:solidFill>
                <a:latin typeface="Verdana"/>
              </a:rPr>
              <a:t>章 </a:t>
            </a:r>
            <a:r>
              <a:rPr b="1" lang="en-US" sz="7200" spc="-1" strike="noStrike">
                <a:solidFill>
                  <a:srgbClr val="a3b2c1"/>
                </a:solidFill>
                <a:latin typeface="Verdana"/>
              </a:rPr>
              <a:t>Word</a:t>
            </a:r>
            <a:br>
              <a:rPr sz="7200"/>
            </a:br>
            <a:r>
              <a:rPr b="1" lang="zh-CN" sz="7200" spc="-1" strike="noStrike">
                <a:solidFill>
                  <a:srgbClr val="a3b2c1"/>
                </a:solidFill>
                <a:latin typeface="Verdana"/>
              </a:rPr>
              <a:t>文字处理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161960" y="4687920"/>
            <a:ext cx="6505560" cy="66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授课人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8720280" y="6234120"/>
            <a:ext cx="33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7BBB-099B-4C5C-9C34-9FBF6A159B1A}" type="datetime">
              <a:rPr b="0" lang="zh-CN" sz="18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基本操作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8080" y="15462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新建文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模板创建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打开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 或者，如果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已打开，选择“文件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新建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双击打开要选择的模板。如果没有合适的模板，可以在“搜索联机模板”框中，输入搜索字词，单击搜索出的结果可以预览模板，单击预览文件旁边的箭头可查看更多模板。选择“创建”可以使用此模板创建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基本操作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5462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打开文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如果刚启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可以在左侧打开最近使用过的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如果已经进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选择“文件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打开”，单击“浏览”，找到位置打开文件。同时在右侧可以看到最近使用过的文档，直接点击可以打开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基本操作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4130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5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保存文档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保存新文档。选择“文件”选项卡，点击“保存”或“另存为”，打开“另存为”对话框，点击“浏览”选择保存位置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默认保存在“文档”文件夹之中），设置文件名后单击“保存”或“取消”按钮完成保存或放弃保存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在继续处理文档时保存文档。对于已编辑并保存过的文档，可以单击快速访问工具栏中的“保存”按钮或选择“文件”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保存”选项来实现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以非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docx 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格式保存文档。可以在“另存为”对话框里单击“保存类型”列表，选择所需的文件格式，设置文件名后单击“保存”或“取消”按钮完成保存或放弃保存。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d 2007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之后版本的文件格式均为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docx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d97-200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的旧版本文件格式为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doc”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，文件的打开可以向下兼容，即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可以打开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doc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文件，反之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rd97-200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不能打开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docx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文件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基本操作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14130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打印文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文件”选项卡上，单击“打印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对话框中设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打印”下的“份数”框中，输入要打印的份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打印机”下，选择所需的打印机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设置”下，显示打印机的默认打印设置。 也可以单击希望更改的设置，选择新设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检查右侧的预览显示，如果没有问题，单击“打印”按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基本操作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38080" y="14130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视图方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提供了多种视图模式供用户选择，包括“阅读视图”“页面视图”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版式视图”“大纲”和“草稿”。用户可以根据需要选择不同的视图模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基本操作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8080" y="14130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档显示控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显示比例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打开或关闭格式标记的显示。（格式标记是指在屏幕上显示而不能打印的字符，如制表符、空格、段落标记等等。显示这些字符有助于在查看或编辑文档时查看格式是否正确。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标尺、网格线、导航窗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视图”选项卡里“显示组”中选取相应复选框以显示或消除功能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基本操作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1413000"/>
            <a:ext cx="48261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档窗口的重排和拆分显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并排查看两个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打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个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选择“视图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窗口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 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并排查看”。如果向上或向下滚动，其他文档也会滚动。 如果希望它们独立滚动，可以选择“同步滚动”将其关闭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图片 3" descr=""/>
          <p:cNvPicPr/>
          <p:nvPr/>
        </p:nvPicPr>
        <p:blipFill>
          <a:blip r:embed="rId1"/>
          <a:stretch/>
        </p:blipFill>
        <p:spPr>
          <a:xfrm>
            <a:off x="5664240" y="2303640"/>
            <a:ext cx="629136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基本操作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14130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档窗口的重排和拆分显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同时查看多个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打开多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选择“视图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窗口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 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全部重排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将窗口拆分为窗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同时查看文档的两个节，便于在编辑一个节时查看其他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选择“视图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拆分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要调整窗格大小，只需拖动边框即可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日期占位符 1"/>
          <p:cNvSpPr/>
          <p:nvPr/>
        </p:nvSpPr>
        <p:spPr>
          <a:xfrm>
            <a:off x="8380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F17D-1026-4FEE-8302-FB84E37FC76E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2"/>
          <p:cNvSpPr/>
          <p:nvPr/>
        </p:nvSpPr>
        <p:spPr>
          <a:xfrm>
            <a:off x="86104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9F91-D911-4866-818B-84EB2E49ABFE}" type="slidenum">
              <a:rPr b="0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第一章  计算机基础知识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文本框 4"/>
          <p:cNvSpPr/>
          <p:nvPr/>
        </p:nvSpPr>
        <p:spPr>
          <a:xfrm>
            <a:off x="2724120" y="2506680"/>
            <a:ext cx="87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2 Word 2016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文档编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输入文档内容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定位光标插入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启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后，在编辑区中不停闪动的光标即为光标插入点。光标插入点所在的位置就是输入文本的位置。在文档中输入文本前，需要先定位好光标插入点，其插入方法主要有两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通过鼠标定位，只需在想输入文本的地方点击鼠标，光标即会自动移到该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通过键盘定位，使用键盘方向键“←↑→↓”移动光标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1"/>
          <p:cNvSpPr/>
          <p:nvPr/>
        </p:nvSpPr>
        <p:spPr>
          <a:xfrm>
            <a:off x="8380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CB4B-F095-45F1-AB11-E81CFEBB16F0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灯片编号占位符 2"/>
          <p:cNvSpPr/>
          <p:nvPr/>
        </p:nvSpPr>
        <p:spPr>
          <a:xfrm>
            <a:off x="86104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7151-E418-4643-932F-A1E3DC857D64}" type="slidenum">
              <a:rPr b="0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第一章  计算机基础知识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文本框 4"/>
          <p:cNvSpPr/>
          <p:nvPr/>
        </p:nvSpPr>
        <p:spPr>
          <a:xfrm>
            <a:off x="2724120" y="2506680"/>
            <a:ext cx="87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1 Word2016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基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输入文档内容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输入内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根据输入内容使用组合键切换输入法，组合键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trl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空格”打开或关闭输入法控制条，使用组合键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trl+Shift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切换各种输入法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选择文本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利用鼠标选取文本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鼠标选定文本是最常用的方法，一般是将鼠标指针移到要选取范围的起始位置，按住鼠标左键不放并拖动到所要选取的范围松开左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利用键盘选取文本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用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ift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键和“↑、↓、←、→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个方向键来操作。将光标移到欲选取的起始位置，按住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ift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键不放，再用“↑、↓、←、→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个方向键移动来选取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选择文本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快速选取文本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快速选取可以迅速选择多行文本。把鼠标放在行的左边边界，当鼠标光标变为白色箭头时单击左键可以选取一行，双击左键可以选取一整段，三击左键可以选取整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所要选取的文本范围起始处单击鼠标左键定位，按住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ift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键不放，再把鼠标移动到文本范围结束处单击左键，可以快速选取一个文本区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多区域选取文本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选取一个区域后，按住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trl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键的同时再选取其它区域，可以实现多区域选取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插入与删除文本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插入和改写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输入内容，输入状态有插入和改写两种。通常为插入状态，输入的内容将添加到光标所在的位置，光标右边的内容自动往右移动。通过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er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键可以切换到改写状态，在改写状态下，输入的内容将替换光标右边的内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删除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点击退格键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kspace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可以删除光标左边的内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点击删除键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ete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可以删除光标右边的内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复制与移动文本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文本的复制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利用“开始”功能区中“剪贴板”操作组中的“复制”和“粘贴”按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利用鼠标右键菜单中的“复制”和“粘贴”选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利用快捷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文本的移动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利用鼠标直接移动文本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利用“开始”功能区中“剪贴板”操作组中的“剪切”和“粘贴”按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利用鼠标右键菜单中的“剪切”和“粘贴”选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利用快捷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复制与移动文本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选择性粘贴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将不同格式的文本复制到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时，程序会自动重新格式化该文本，以匹配目标文本。使用“选择性粘贴”可以保留原始格式或将其粘贴为链接或图片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剪切或复制要粘贴的幻灯片、图片、文本或对象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把光标移动到要插入文本的位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开始”选项卡上的“剪贴板”组中，单击“粘贴”下的箭头，单击“选择性粘贴”，在对话框里“形式”菜单里选择选项之一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查找与替换文本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当用户要在文档中检查某些文字并加以修改时，利用“查找”与“替换”命令可以轻松地完成。“查找”命令会快速地找出用户所指定的文字，“替换”命令则将欲替换的文字迅速、准确地取代完成。“查找”与“替换”功能的主要对象有文字、词或句子、特殊字符等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查找与替换文本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2600" y="1484280"/>
            <a:ext cx="4462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使用导航窗格查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导航窗格会显示文档结构，利用其搜索功能可以快速查找，搜索到的内容会突出显示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图片 3" descr="C:\Users\XYW\Documents\WeChat Files\wxid_exl15hwb4tjt12\FileStorage\Temp\1673312417036.png"/>
          <p:cNvPicPr/>
          <p:nvPr/>
        </p:nvPicPr>
        <p:blipFill>
          <a:blip r:embed="rId1"/>
          <a:stretch/>
        </p:blipFill>
        <p:spPr>
          <a:xfrm>
            <a:off x="6240600" y="1628640"/>
            <a:ext cx="52228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查找与替换文本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使用“高级查找”对话框查找内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开始”选项卡里“编辑”组选择“查找”，点击“查找”按钮右侧的下三角▼按钮，在弹出列表中选择“高级查找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查找内容”中输入要查找的字词或短语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选择“查找下一处”，直到找到匹配项，查找到的内容会突出显示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查找与替换文本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12960" y="1484280"/>
            <a:ext cx="5038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使用“查找替换”对话框替换内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开始”选项卡里“编辑”组选择“替换”，打开“查找和替换”对话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查找内容”中输入要替换的字词或短语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替换为”中输入新文本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选择“全部替换”以更改字词或短语的所有匹配项。 或者，选择“查找下一处”，直到找到要更新的匹配项，然后选择“替换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图片 1" descr="屏幕剪辑"/>
          <p:cNvPicPr/>
          <p:nvPr/>
        </p:nvPicPr>
        <p:blipFill>
          <a:blip r:embed="rId1"/>
          <a:stretch/>
        </p:blipFill>
        <p:spPr>
          <a:xfrm>
            <a:off x="6240600" y="1706400"/>
            <a:ext cx="5543280" cy="4203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2016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基础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2600" y="1484280"/>
            <a:ext cx="10667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soft Office 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是微软公司的一个文字处理器应用程序。作为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ice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套件的核心程序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提供了许多易于使用的文档创建工具，同时也提供了丰富的功能集供创建复杂的文档使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撤销和重复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在编辑文档的时候，如果误操作，可通过单击快速访问工具栏里的“撤销”功能来撤销前一操作。如果误撤销了某些操作，则可通过单击快速访问工具栏里的“恢复”功能取消之前的撤销操作，恢复原来的文本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8380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B1BF-BEB7-4D4B-A0B9-29C51432A36F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2"/>
          <p:cNvSpPr/>
          <p:nvPr/>
        </p:nvSpPr>
        <p:spPr>
          <a:xfrm>
            <a:off x="86104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0BE2-D078-4645-BF92-83D96E77BD4E}" type="slidenum">
              <a:rPr b="0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第一章  计算机基础知识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文本框 4"/>
          <p:cNvSpPr/>
          <p:nvPr/>
        </p:nvSpPr>
        <p:spPr>
          <a:xfrm>
            <a:off x="2724120" y="2506680"/>
            <a:ext cx="87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3 Word 2016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文档排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排版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12600" y="1484280"/>
            <a:ext cx="10667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排版，是指将文字、图片、图形等可视化信息元素在版面布局上调整位置、大小，是使版面布局条理化的过程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soft Office Word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作为最流行的文字处理程序，提供了许多易于使用的文档排版工具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字符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字符是文档中最基本的单元，通过格式化操作，可以给字符设置字体、字形、大小和颜色等格式属性以及空心、阴影、上下标和删除线等多种效果。此外，还可以改变字符间距和添加文字的一些特殊效果如发光、倒影等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字符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字体格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基本设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字体。字体是指文字在屏幕或打印时呈现的书写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字形。字形是指常规、加粗、倾斜等字符显示形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字号。字号是指字符显示的大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字符颜色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下划线、删除线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上标、下标。上标或下标是一种小于普通输入行的数字、图、符号或指示符，它稍微位于上方（上标）或下方（下标）位置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更改大小写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拼音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字符底纹和边框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图片 3" descr="C:\Users\XYW\Documents\WeChat Files\wxid_exl15hwb4tjt12\FileStorage\Temp\1673313573026.png"/>
          <p:cNvPicPr/>
          <p:nvPr/>
        </p:nvPicPr>
        <p:blipFill>
          <a:blip r:embed="rId1"/>
          <a:stretch/>
        </p:blipFill>
        <p:spPr>
          <a:xfrm>
            <a:off x="7535880" y="1916280"/>
            <a:ext cx="4494240" cy="2207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字符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2960" y="1484280"/>
            <a:ext cx="5975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字体格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高级设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通过点击“开始”选项卡上“字体”组右下角的“显示字体对话框”按钮，可以打开“字体”对话框进行较复杂的设置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字体选项。字体选项是对“开始”选项卡上“字体”组中设置按钮的功能补充，可以更加详细和全面的设置字符格式和外观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高级选项。在高级选项里可以对字符间距、字符缩放比例和字符位置进行设置，还可以调整字符的缩放比例和字符与基线的位置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图片 4" descr="C:\Users\XYW\Documents\WeChat Files\wxid_exl15hwb4tjt12\FileStorage\Temp\1673313467179.png"/>
          <p:cNvPicPr/>
          <p:nvPr/>
        </p:nvPicPr>
        <p:blipFill>
          <a:blip r:embed="rId1"/>
          <a:stretch/>
        </p:blipFill>
        <p:spPr>
          <a:xfrm>
            <a:off x="7680240" y="1343160"/>
            <a:ext cx="3251160" cy="478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字符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12600" y="1484280"/>
            <a:ext cx="590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文本效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本效果可以为字符添加轮廓、阴影、映像、发光等效果，。设置方法有以下两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通过单击“开始”选项卡上“字体”组中“文本效果和版式”按钮右侧的下三角▼按钮，可以打开文本效果的系列选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通过点击“开始”选项卡上“字体”组右下角的“显示字体对话框”按钮，打开“字体”对话框，在对话框里选择“文字效果”，进入“设置文本效果格式”对话框，在这里可以更加细致的对文本效果进行设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图片 3" descr="C:\Users\XYW\Documents\WeChat Files\wxid_exl15hwb4tjt12\FileStorage\Temp\1673320185404.png"/>
          <p:cNvPicPr/>
          <p:nvPr/>
        </p:nvPicPr>
        <p:blipFill>
          <a:blip r:embed="rId1"/>
          <a:stretch/>
        </p:blipFill>
        <p:spPr>
          <a:xfrm>
            <a:off x="7032600" y="2133720"/>
            <a:ext cx="467208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字符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简繁转换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对于中文文本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提供了简体、繁体转换的功能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先选定要转换的内容，点击“审阅”选项卡上“中文简繁转换”组的相应按钮进行操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段落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12960" y="1484280"/>
            <a:ext cx="1072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段落是指根据文章或事情的内容、阶段划分的相对独立的部分。在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的段落设置里可以对段落缩进、行间距、对齐方式和首字符等格式进行调整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段落以“回车符”表示段落的结束，每次点击“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ter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键都会添加一个段落标记符，同时结束本段文字并另起一行。如果只想换行不另起一段，可以通过组合键“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hift+Enter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来实现。这样可以添加行结束符并另起一行，但不会分段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段落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段落对齐设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开始”选项卡上“段落”组中选择对齐方式。共有左对齐、居中、右对齐、两端对齐、分散对齐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种对齐方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两端对齐方式适合英文排版，可以在词和词之间自动调整宽度，使正文的左右端和左右页边对齐，以避免一个英文单词被分为两行书写的情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散对齐则是指以字符为单位平均分布在一行中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图片 1" descr="屏幕剪辑"/>
          <p:cNvPicPr/>
          <p:nvPr/>
        </p:nvPicPr>
        <p:blipFill>
          <a:blip r:embed="rId1"/>
          <a:stretch/>
        </p:blipFill>
        <p:spPr>
          <a:xfrm>
            <a:off x="4194000" y="4226040"/>
            <a:ext cx="3527640" cy="1898640"/>
          </a:xfrm>
          <a:prstGeom prst="rect">
            <a:avLst/>
          </a:prstGeom>
          <a:ln w="0">
            <a:noFill/>
          </a:ln>
        </p:spPr>
      </p:pic>
      <p:sp>
        <p:nvSpPr>
          <p:cNvPr id="156" name="矩形 2"/>
          <p:cNvSpPr/>
          <p:nvPr/>
        </p:nvSpPr>
        <p:spPr>
          <a:xfrm>
            <a:off x="3935520" y="4724280"/>
            <a:ext cx="24127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的基本功能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462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字编辑功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表格处理功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件管理功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版面设计功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拼写和语法检查功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强大的打印功能和兼容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段落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12600" y="1484280"/>
            <a:ext cx="6335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段落对话框设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通过点击“开始”选项卡上“段落”组右下角的“显示段落设置对话框”按钮，打开“段落”对话框。也可以通过鼠标右键单击，选择“段落”选项打开“段落”对话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缩进和间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缩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间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换行和分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文版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图片 1" descr="屏幕剪辑"/>
          <p:cNvPicPr/>
          <p:nvPr/>
        </p:nvPicPr>
        <p:blipFill>
          <a:blip r:embed="rId1"/>
          <a:stretch/>
        </p:blipFill>
        <p:spPr>
          <a:xfrm>
            <a:off x="7824960" y="1278000"/>
            <a:ext cx="2649240" cy="4871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段落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2600" y="1484280"/>
            <a:ext cx="10870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首字下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为了增强文字的可读性，在报纸或杂志中常见文章开头的第一个字往往放大数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项目符号和编号、多级列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项目符号和编号是放在文本前的符号或数字，起到强调作用。多级列表可以形成不同级别的项目符号列表。三者的灵活运用，可以使文档的层次结构更清晰、更有条理、重点突出，并能提高文档编辑速度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项目符号。项目符号是指添加在段落前的符号，一般用于并列关系的段落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项目编号。添加项目编号的操作与项目符号是一样的，只是把符号变为了序列编号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多级列表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里面的多级列表，一般是当内容比较多，需要分级显示的时候使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段落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2600" y="1484280"/>
            <a:ext cx="6335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边框和底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提供了图形边框、底纹方案和填充效果，用来强调文字、表格和表格单元格、图形以及整个页面。通过这些设置可以增加读者对文档内容的兴趣和注意程度，并对文档起到一定美化效果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边框。对选定的文字或段落添加边框，有线型、颜色、宽度可供选择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页面边框。主要针对整篇文档页面，设置和边框选项卡相同，只是增加了“艺术型”选项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底纹。对选定的文字或段落添加底纹，“填充”项可设置底纹颜色，“图案”里的“样式”项可以设置底纹内填充点的密度或图案，“颜色”项可以设置底纹内填充点或图案的颜色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图片 1" descr="屏幕剪辑"/>
          <p:cNvPicPr/>
          <p:nvPr/>
        </p:nvPicPr>
        <p:blipFill>
          <a:blip r:embed="rId1"/>
          <a:stretch/>
        </p:blipFill>
        <p:spPr>
          <a:xfrm>
            <a:off x="7391520" y="1700280"/>
            <a:ext cx="4438440" cy="4251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段落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12600" y="1484280"/>
            <a:ext cx="734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中文版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开始”选项卡上“段落”组中“中文版式”选项提供了对中文内容的特殊处理，如纵横混排、合并字符、双行合一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纵横混排。指文字左旋转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度进行展示，以使其具有特殊的显示效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合并字符。是指多个字符合并成一个整体同时显示在一行中，所选字符将被排列成两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双行合一。输入的文字显示为长度相等的上下两列，其高度与一行正文相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调整宽度。可调整字符之间的间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字符缩放。主要是调整字符大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图片 2" descr="屏幕剪辑"/>
          <p:cNvPicPr/>
          <p:nvPr/>
        </p:nvPicPr>
        <p:blipFill>
          <a:blip r:embed="rId1"/>
          <a:stretch/>
        </p:blipFill>
        <p:spPr>
          <a:xfrm>
            <a:off x="8256600" y="2421000"/>
            <a:ext cx="3551400" cy="1800000"/>
          </a:xfrm>
          <a:prstGeom prst="rect">
            <a:avLst/>
          </a:prstGeom>
          <a:ln w="0">
            <a:noFill/>
          </a:ln>
        </p:spPr>
      </p:pic>
      <p:sp>
        <p:nvSpPr>
          <p:cNvPr id="168" name="矩形 3"/>
          <p:cNvSpPr/>
          <p:nvPr/>
        </p:nvSpPr>
        <p:spPr>
          <a:xfrm>
            <a:off x="9767880" y="3321000"/>
            <a:ext cx="792000" cy="48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右箭头 4"/>
          <p:cNvSpPr/>
          <p:nvPr/>
        </p:nvSpPr>
        <p:spPr>
          <a:xfrm rot="18913800">
            <a:off x="9040680" y="4024080"/>
            <a:ext cx="731880" cy="287280"/>
          </a:xfrm>
          <a:prstGeom prst="rightArrow">
            <a:avLst>
              <a:gd name="adj1" fmla="val 50000"/>
              <a:gd name="adj2" fmla="val 5013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模板与样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12960" y="1484280"/>
            <a:ext cx="1072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      “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模板”是一种特殊的文件，在文件创建时可以使用它，是可帮助设计有趣、引人入胜和具有专业外观的文档的文件。通常在一个模板里包含着一个默认的主题和一个默认的样式集。在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中单击“新建空白文档”创建一个空白的文档，这时候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就相当于使用了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rmal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模板来创建了一个新文档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所谓样式，就是将修饰某一类段落的一组参数，其中包括如字体类型、字体大小、字体颜色、对齐方式等，命名为一个特定的段落格式名称。通常，我们就把这个名称叫做样式，概括地说，样式就是指被冠以同一名称的一组命令或格式的集合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模板与样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2600" y="1484280"/>
            <a:ext cx="1058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2016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通过在线资源的方式提供了很多模板以供选择，使用非常简单，单击“文件”选项卡上的 “新建”选项，如果电脑里存在可用文档，会显示在右侧，如果没有可用的模板，可以在“搜索联机模板”框中，输入搜索字词查找线上资源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模板与样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2600" y="1484280"/>
            <a:ext cx="6551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样式分为“段落样式”和“字符样式”。“字符样式”包含了字符的各种格式设置，如颜色、字体、字号、字符间距等等。“段落样式”不仅仅是一组段落格式的集合，还包括字符格式的集合。因为每一个段落都由若干字符构成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样式的使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自定义样式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提供的样式有时不能满足实际应用，这时可以根据现有样式进行修改建立新样式，已满足应用需要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样式的更改和删除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图片 6" descr="C:\Users\XYW\Documents\WeChat Files\wxid_exl15hwb4tjt12\FileStorage\Temp\1673576121804.png"/>
          <p:cNvPicPr/>
          <p:nvPr/>
        </p:nvPicPr>
        <p:blipFill>
          <a:blip r:embed="rId1"/>
          <a:stretch/>
        </p:blipFill>
        <p:spPr>
          <a:xfrm>
            <a:off x="7461360" y="1989000"/>
            <a:ext cx="4443480" cy="39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模板与样式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12600" y="1484280"/>
            <a:ext cx="1058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格式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格式刷可以简单的将已经设置好的格式应用到其它字符或段落中，非常便捷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选取已经调整好格式的文字，然后单击“格式刷”图标，再到准备调整的文字前，用同样的方法选取该文字即可完成设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单击格式刷时只可以使用一次，要连续使用，可以双击格式刷按钮，操作完成后再次单击“格式刷”按钮关闭即可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格式刷”仅能够对文字的格式（包括字体及段落设置）进行复制，不能复制文字本身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页面布局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12960" y="1484280"/>
            <a:ext cx="1072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900" spc="-1" strike="noStrike">
                <a:solidFill>
                  <a:srgbClr val="000000"/>
                </a:solidFill>
                <a:latin typeface="Verdana"/>
              </a:rPr>
              <a:t>页面布局主要设置整个文档页面的外观和输出效果，包括页面设置、页眉页脚、脚注尾注、页码分页等多项设置内容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页面布局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12960" y="1484280"/>
            <a:ext cx="698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页面设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页面设置可以对文档纸张大小、方向和边距等进行设置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直接单击“布局”选项卡上“页面设置”组中的选项进行设置，或点击“页面设置”组右下角的“显示页面设置对话框”按钮，打开“页面设置”对话框设置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页边距”选项。用于设置文档内容和纸张上下左右边缘的距离，以及装订线位置、纸张方向、页码范围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纸张”选项。可以选择纸张规格，也可以自定义设置纸张大小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版式”。设置节的起始位置、页眉页脚、页面垂直对齐方式等选项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文档网格”。设置每行、每页的字符数，文字排列的方向，网格线是否打印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图片 1" descr="屏幕剪辑"/>
          <p:cNvPicPr/>
          <p:nvPr/>
        </p:nvPicPr>
        <p:blipFill>
          <a:blip r:embed="rId1"/>
          <a:stretch/>
        </p:blipFill>
        <p:spPr>
          <a:xfrm>
            <a:off x="8472600" y="1401840"/>
            <a:ext cx="2635200" cy="473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的启动与退出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8080" y="15462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35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启动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d 201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启动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可利用以下几种方法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5000"/>
              </a:lnSpc>
              <a:spcBef>
                <a:spcPts val="6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从“开始”菜单启动：单击“开始”按钮，打开“开始”菜单；鼠标左键单击“所有程序”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\ Word 2016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命令即可启动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5000"/>
              </a:lnSpc>
              <a:spcBef>
                <a:spcPts val="6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使用桌面快捷方式：如果快捷方式存在，可以通过鼠标左键双击桌面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的快捷方式图标启动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5000"/>
              </a:lnSpc>
              <a:spcBef>
                <a:spcPts val="624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双击文档启动：鼠标左键双击计算机中存储的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文档，可直接启动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并打开文档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5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页面布局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12600" y="1484280"/>
            <a:ext cx="539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分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栏功能可以使文档排版更灵活生动，可读性更好。单击“布局”选项卡上“页面设置”组中“分栏”按钮右侧的下三角▼按钮，在下拉菜单里面选择需要的分栏选项，更详细的设置可以通过点击“更多分栏”选项打开“分栏”对话框进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图片 1" descr="屏幕剪辑"/>
          <p:cNvPicPr/>
          <p:nvPr/>
        </p:nvPicPr>
        <p:blipFill>
          <a:blip r:embed="rId1"/>
          <a:stretch/>
        </p:blipFill>
        <p:spPr>
          <a:xfrm>
            <a:off x="7104240" y="1736640"/>
            <a:ext cx="3819240" cy="4143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页面布局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12600" y="1484280"/>
            <a:ext cx="539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文字方向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单击“布局”选项卡上“页面设置”组中“文字方向”按钮下方的下三角▼按钮，在下拉菜单里面直接选择，或点击“文字方向选项”打开对话框进一步设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分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，当文字到达页面底部时，会自动插入一个分页符，把后续文字放到下一页。通过设置也可以在需要时自定义分页符位置强制分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图片 2" descr="屏幕剪辑"/>
          <p:cNvPicPr/>
          <p:nvPr/>
        </p:nvPicPr>
        <p:blipFill>
          <a:blip r:embed="rId1"/>
          <a:stretch/>
        </p:blipFill>
        <p:spPr>
          <a:xfrm>
            <a:off x="9408960" y="1359000"/>
            <a:ext cx="2238480" cy="474336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3" descr="屏幕剪辑"/>
          <p:cNvPicPr/>
          <p:nvPr/>
        </p:nvPicPr>
        <p:blipFill>
          <a:blip r:embed="rId2"/>
          <a:stretch/>
        </p:blipFill>
        <p:spPr>
          <a:xfrm>
            <a:off x="7070760" y="1801800"/>
            <a:ext cx="185724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页面布局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12600" y="1484280"/>
            <a:ext cx="1079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页面背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用于修改文档的背景颜色。可以指定为单一颜色或渐变、纹理、图案、图片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页眉和页脚、页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每个页面的顶部区域为页眉，是在页面最上面的部分，页脚是页面最下方的部分，页码属于页脚的一部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页眉和页脚位置经常会包含一些信息，这些信息可以是文字或图片，内容涉及文件名、标题、日期、文章标题和章节标题等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页面布局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2960" y="1484280"/>
            <a:ext cx="5038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脚注和尾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脚注是可以附在文章页面的最底端的，对某些东西加以说明，印在书页下端的注文。尾注是一种对文本的补充说明，一般位于文档的末尾，列出引文的出处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图片 1" descr="屏幕剪辑"/>
          <p:cNvPicPr/>
          <p:nvPr/>
        </p:nvPicPr>
        <p:blipFill>
          <a:blip r:embed="rId1"/>
          <a:stretch/>
        </p:blipFill>
        <p:spPr>
          <a:xfrm>
            <a:off x="6240600" y="2060640"/>
            <a:ext cx="2519280" cy="19447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" descr="屏幕剪辑"/>
          <p:cNvPicPr/>
          <p:nvPr/>
        </p:nvPicPr>
        <p:blipFill>
          <a:blip r:embed="rId2"/>
          <a:stretch/>
        </p:blipFill>
        <p:spPr>
          <a:xfrm>
            <a:off x="9048600" y="1274760"/>
            <a:ext cx="2581560" cy="485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1"/>
          <p:cNvSpPr/>
          <p:nvPr/>
        </p:nvSpPr>
        <p:spPr>
          <a:xfrm>
            <a:off x="8380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65F7-3A08-4FA1-9554-9C82B46C1DD3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2"/>
          <p:cNvSpPr/>
          <p:nvPr/>
        </p:nvSpPr>
        <p:spPr>
          <a:xfrm>
            <a:off x="86104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A766-A138-4965-972B-FAC940A56038}" type="slidenum">
              <a:rPr b="0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第一章  计算机基础知识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文本框 4"/>
          <p:cNvSpPr/>
          <p:nvPr/>
        </p:nvSpPr>
        <p:spPr>
          <a:xfrm>
            <a:off x="2724120" y="2506680"/>
            <a:ext cx="87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4 Word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表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12600" y="1484280"/>
            <a:ext cx="10667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表格是一种可视化交流模式，也是一种组织整理数据的手段。人们在通讯交流、科学研究以及数据分析活动当中广泛采用着形形色色的表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表格处理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基本功能之一，相对于后面章节将要学习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表格更加简单和便捷，相当于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一个简略版。主要是用于文档中的附表，或是文档中列出的清单类，以及一些简单的数据计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soft Office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，表格由一行或多行单元格组成。单元格是表格中行与列的交叉部分，它是组成表格的最小单位，可拆分或者合并。单个数据的输入和修改都是在单元格中进行的。每个单元格相当于一个文本框，在单元格内可以输入字符、图形，甚至是另一个表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创建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912600" y="1484280"/>
            <a:ext cx="1058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里提供了“鼠标拖动”“插入表格”“绘制表格”“快速表格”“文本转表格”等几种方式用来创建表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前两种方法建立的是规则表格，即所有行高、列宽一样，单元格平均布置。由于在日常使用中，完全规则的表格很少使用，所以通常在建立表格后需要进一步修改。“绘制表格”采用画笔和橡皮擦工具手动建立表格，适合绘制不规则表格或后期调整修改。“快速表格”是存储在库中作为构建基块的表，可以随时访问和重复使用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快速表格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。 如果经常使用具有特定格式的表格，则可以在“快速表格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库中保存表格的副本，以便无需每次使用时都重新创建表格。“文本转表格”是根据特定的标记符号把文本直接转换成表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创建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鼠标拖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插入表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绘制表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绘制表格工具提供了“绘制表格”和“橡皮擦”工具，利用鼠标拖拽的方式手动绘制，直线、斜线均可，也可以擦除不要的表格线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快速表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使用快速表格插入表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将表格添加到 “快速表格” 库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创建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文本转表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由于“文本转表格”是根据特定的标记符号把文本进行转换，所以需要先在“开始”选项卡“段落”组里点击“显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隐藏编辑标记”按钮，以便查看隐藏的符号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“回车符”来划分表格的行，依据“逗号、空格、制表符或自定义符号”来划分表格的列，可以根据实际情况选择应用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表格内容输入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格中的每一个小格叫做单元格，在每一个单元格中都有一个段落标记，可以把每一个单元格当作一个小的段落来处理。在表格中输入内容，操作与文本输入一样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的启动与退出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838080" y="15462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退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20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退出方法有以下几种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通过标题栏按钮关闭：单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标题栏右上角的“关闭”按钮，退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通过标题栏右键快捷菜单关闭：右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标题栏，然后单击快捷菜单中的“关闭”命令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快捷键关闭：按快捷键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+F4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也可退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辑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格的编辑包括表格对象的插入、删除、合并、拆分、属性设置、行高列宽设置等，以及对表格中数据的移动、复制和删除等操作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格操作要遵循“先选择、后操作”的原则，在要编辑的表格被选择后，会自动出现“表格工具”栏以及其下包含的“设计”“布局”两个选项卡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辑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表格对象的选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灵活运用表格对象的选择技巧，可以快速的选定目标，提高工作效率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调整行高列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行高列宽的设置要遵循“先选择、后操作”的原则，先选取要调整的行或列，然后调整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辑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合并和拆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合并单元格。指把相邻的多个单元格合并成一个单元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拆分单元格。指把一个单元格拆分成多个单元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拆分表格。指把一个表格拆分成两个独立的表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辑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插入行、列或单元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插入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插入一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多行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插入一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多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单元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辑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删除行、列或单元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选择要删除的表格对象，点击“表格工具”栏下“布局”选项卡“行和列”组中的“删除”按钮，在弹出的选单中根据需要选择对应的选项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辑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表格属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通过点击“表格工具”栏下“布局”选项卡“表”组中的“属性”按钮，在弹出的“表格属性”对话框中进行设置。设置内容包括表格尺寸、对齐方式、文字环绕方式、行列尺寸、单元格大小等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美化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表格内容的格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格内容的格式包括字体、段落设置等，设置方法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文档的字符格式设置相同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表格的对齐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表格对齐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单元格内数据的对齐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表格边框和底纹设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边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底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图片 1" descr="屏幕剪辑"/>
          <p:cNvPicPr/>
          <p:nvPr/>
        </p:nvPicPr>
        <p:blipFill>
          <a:blip r:embed="rId1"/>
          <a:stretch/>
        </p:blipFill>
        <p:spPr>
          <a:xfrm>
            <a:off x="6899400" y="2565360"/>
            <a:ext cx="3168360" cy="174960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2" descr="屏幕剪辑"/>
          <p:cNvPicPr/>
          <p:nvPr/>
        </p:nvPicPr>
        <p:blipFill>
          <a:blip r:embed="rId2"/>
          <a:stretch/>
        </p:blipFill>
        <p:spPr>
          <a:xfrm>
            <a:off x="6899400" y="4624560"/>
            <a:ext cx="484344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美化表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自动套用格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提供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0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种预设的表格样式，这些样式包括边框、底纹字体、颜色等多种设置，选择某种样式后会自动为表格套用这些格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表格数据管理与计算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表格的计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里表格单元格的命名规则和后面章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软件的规则相同，即列命名使用英文字母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C…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行命名使用阿拉伯数字“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……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，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A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表示第一列第二行单元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在放置结果的单元格内单击鼠标左键定位鼠标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点击“表格工具”栏下“布局”选项卡“数据”组中点击“公式”按钮，在弹出的“公式”对话框“公式”栏里会默认显示“求和”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公式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后面的括号里可以输入求和数据的方向（左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FT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、右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IGHT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、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BOV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、下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ELOW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，或是直接输入求和的范围，例如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SUM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1:A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”，表示求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1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到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3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单元格范围内的数据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也可以根据需要选择“粘贴函数”栏里的其它函数公式，常用函数包括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M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VERAG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等）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设置完毕后点击确定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表格数据管理与计算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表格的排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中提供了将表格内容按照字母、数字或日期进行升序、降序排序的功能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点击“表格工具”栏下“布局”选项卡“数据”组中的“排序”按钮，打开“排序”对话框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设置关键字，并选择排序类型（笔划、数字、日期、拼音）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设置升序或降序的排序方式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839520" y="2057400"/>
            <a:ext cx="393372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2016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工作界面主要由标题栏、快速访问工具栏、文件选项卡、功能区、文档编辑区、状态栏等组成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标题 1"/>
          <p:cNvSpPr/>
          <p:nvPr/>
        </p:nvSpPr>
        <p:spPr>
          <a:xfrm>
            <a:off x="838080" y="428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Word 2016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的窗口组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内容占位符 7" descr=""/>
          <p:cNvPicPr/>
          <p:nvPr/>
        </p:nvPicPr>
        <p:blipFill>
          <a:blip r:embed="rId1"/>
          <a:stretch/>
        </p:blipFill>
        <p:spPr>
          <a:xfrm>
            <a:off x="4943520" y="1528920"/>
            <a:ext cx="6983280" cy="43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表格数据管理与计算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表格生成图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中的表格可以把全部或部分数据转换成图表，以便更形象的展示数据内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在希望插入图表的位置单击鼠标左键定位光标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点击“插入”选项卡“插图”组中的“图表”按钮，打开“插入图表”对话框，选择需要的图表类型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选择好后点击确定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出现的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窗口中修改示例数据为表格里的真实数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1"/>
          <p:cNvSpPr/>
          <p:nvPr/>
        </p:nvSpPr>
        <p:spPr>
          <a:xfrm>
            <a:off x="8380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078A-283F-4876-855F-62C396EE0B83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2"/>
          <p:cNvSpPr/>
          <p:nvPr/>
        </p:nvSpPr>
        <p:spPr>
          <a:xfrm>
            <a:off x="86104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8013-CA81-4F2C-AB94-DE4F24711707}" type="slidenum">
              <a:rPr b="0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第一章  计算机基础知识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文本框 4"/>
          <p:cNvSpPr/>
          <p:nvPr/>
        </p:nvSpPr>
        <p:spPr>
          <a:xfrm>
            <a:off x="2724120" y="2506680"/>
            <a:ext cx="87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5 Word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图文混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插入元素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2600" y="1484280"/>
            <a:ext cx="1058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插入图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形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屏幕截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艺术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文本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公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rtAr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图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rtArt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soft Office 2007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新加入的特性，用户可使用该特性创建各种图形图表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rtArt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图形是信息和观点的视觉表示形式。可以通过从多种不同布局中进行选择来创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rtArt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图形，从而快速、轻松、有效地传达信息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图片 1" descr="屏幕剪辑"/>
          <p:cNvPicPr/>
          <p:nvPr/>
        </p:nvPicPr>
        <p:blipFill>
          <a:blip r:embed="rId1"/>
          <a:stretch/>
        </p:blipFill>
        <p:spPr>
          <a:xfrm>
            <a:off x="4148280" y="1484280"/>
            <a:ext cx="4113000" cy="165564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2" descr="屏幕剪辑"/>
          <p:cNvPicPr/>
          <p:nvPr/>
        </p:nvPicPr>
        <p:blipFill>
          <a:blip r:embed="rId2"/>
          <a:stretch/>
        </p:blipFill>
        <p:spPr>
          <a:xfrm>
            <a:off x="8040600" y="2852640"/>
            <a:ext cx="359244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辑图片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日常编辑文档过程中，我们经常需要使用图片排版到文档中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提供了对图片文件的简单编辑和美化功能，完全能够满足日常编辑文档的需要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图片的选取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单击图片，图片周围会显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个句柄，图片上方显示圆弧形空心箭头，右上侧会显示“布局选项”图标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图片的裁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调节手柄裁剪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“裁剪为形状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辑图片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删除图片背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调整图片大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使用调节手柄调整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图片工具”下的“格式”选项卡上的“大小”组里调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图片旋转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拖动旋转手柄旋转图片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“布局”对话框里输入旋转角度直接设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辑图片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设置图片边框和图片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设置图片更正、颜色和艺术效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图文混排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2600" y="1484280"/>
            <a:ext cx="6335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图文混排主要设置文字在图片周围的环绕方式、叠放方式，图片的组合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文字环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嵌入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四周型环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紧密型环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越型环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上下型环绕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衬于文字下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浮于文字上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图片 1" descr="屏幕剪辑"/>
          <p:cNvPicPr/>
          <p:nvPr/>
        </p:nvPicPr>
        <p:blipFill>
          <a:blip r:embed="rId1"/>
          <a:srcRect l="4223" t="0" r="0" b="0"/>
          <a:stretch/>
        </p:blipFill>
        <p:spPr>
          <a:xfrm>
            <a:off x="8543880" y="1403280"/>
            <a:ext cx="2160720" cy="4711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图文混排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叠放次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当文档中存在多个图片时，可以通过设置来安排图片的前后次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图片组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当文档中存在多个图片时，可以通过组合图片的方式来便于操作。需要编辑单个图片时，再取消组合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水印设置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插入预设水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插入自定义水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图片水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插入文字水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删除水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图片 1" descr="屏幕剪辑"/>
          <p:cNvPicPr/>
          <p:nvPr/>
        </p:nvPicPr>
        <p:blipFill>
          <a:blip r:embed="rId1"/>
          <a:stretch/>
        </p:blipFill>
        <p:spPr>
          <a:xfrm>
            <a:off x="7464600" y="1424160"/>
            <a:ext cx="2679480" cy="4708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1"/>
          <p:cNvSpPr/>
          <p:nvPr/>
        </p:nvSpPr>
        <p:spPr>
          <a:xfrm>
            <a:off x="8380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4B3-08B6-4E03-909B-FAAEC86BEDDB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灯片编号占位符 2"/>
          <p:cNvSpPr/>
          <p:nvPr/>
        </p:nvSpPr>
        <p:spPr>
          <a:xfrm>
            <a:off x="8610480" y="6548400"/>
            <a:ext cx="27432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FC8-9998-4780-9535-958E2ED5A5E5}" type="slidenum">
              <a:rPr b="0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第一章  计算机基础知识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文本框 4"/>
          <p:cNvSpPr/>
          <p:nvPr/>
        </p:nvSpPr>
        <p:spPr>
          <a:xfrm>
            <a:off x="2724120" y="2506680"/>
            <a:ext cx="872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.6 Word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高级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 2016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的窗口组成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838080" y="15462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5000"/>
              </a:lnSpc>
              <a:spcBef>
                <a:spcPts val="3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标题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显示正在编辑的文档的文件名以及你使用的软件的名称。 它还包括标准的“最小化、还原”“关闭”按钮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49"/>
              </a:spcBef>
              <a:buClr>
                <a:srgbClr val="cc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快速访问工具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此处提供常用的命令，例如“保存、撤消”“恢复”。 快速访问工具栏的末尾是一个下拉菜单，可在其中添加其他常用命令或常用命令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49"/>
              </a:spcBef>
              <a:buClr>
                <a:srgbClr val="cc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文件选项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单击此按钮可查找对文档本身而不是文档内容执行的命令，例如“新建”“打开”“另存为”“打印“关闭”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功能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工作所需的命令位于此处。 功能区的外观将根据监视器的大小而更改。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会通过更改控件的排列方式来压缩功能区，以适应较小的监视器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49"/>
              </a:spcBef>
              <a:buClr>
                <a:srgbClr val="cc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文档编辑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显示正在编辑的文档的内容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49"/>
              </a:spcBef>
              <a:buClr>
                <a:srgbClr val="cc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滚动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用于更改正在编辑的文档的显示位置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49"/>
              </a:spcBef>
              <a:buClr>
                <a:srgbClr val="cc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状态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显示有关正在编辑的文档的信息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49"/>
              </a:spcBef>
              <a:buClr>
                <a:srgbClr val="cc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缩放幻灯片控件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用于更改正在编辑的文档的缩放设置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保护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档的保护可以通过设置密码和限制编辑两种方式来实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使用密码保护文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使用限制编辑保护文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编制目录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有时候由于文档页数较多，需要添加一个目录以便于查看文档的梗概。要给一个文档建立目录，首先需要这个文档层次清晰。各级标题需要按照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要求的标题格式设置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格式化文档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编制自动目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编制自定义目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邮件合并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2960" y="1484280"/>
            <a:ext cx="10378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有时我们处理的文件主要内容基本都是相同的，只是有些具体数据有变化。在大量填写这类相同格式时，只要修改少数相关内容就好，在其他文档内容不变，这是我们可以灵活运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邮件合并功能，这样不仅操作简单快捷，而且还可以设置各种格式、打印出的效果也好，可以灵活方便的满足各种不同需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ice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中，先建立两个文档：一个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包括所有文件共有内容的主文档（比如未填写的信封等）和一个包括变化信息的数据源，通常是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件（填写的收件人、发件人、邮编等），然后使用邮件合并功能在主文档中插入变化的信息，合成后的文件用户可以保存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文档，可以打印出来，也可以以邮件形式发出去 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3520" y="476280"/>
            <a:ext cx="1066788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文档基本操作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546200"/>
            <a:ext cx="1051560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新建文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创建一个空白文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打开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。 或者，如果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d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已打开，选择“文件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gt;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新建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选择“空白文档”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5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4T06:33:00Z</dcterms:created>
  <dc:creator>lenovo</dc:creator>
  <dc:description/>
  <cp:keywords/>
  <dc:language>en-US</dc:language>
  <cp:lastModifiedBy>x</cp:lastModifiedBy>
  <dcterms:modified xsi:type="dcterms:W3CDTF">2023-06-29T07:29:13Z</dcterms:modified>
  <cp:revision>2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9086E864B1C47248C4A2D28116B1F62_12</vt:lpwstr>
  </property>
  <property fmtid="{D5CDD505-2E9C-101B-9397-08002B2CF9AE}" pid="3" name="KSOProductBuildVer">
    <vt:lpwstr>2052-11.1.0.14036</vt:lpwstr>
  </property>
</Properties>
</file>